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01F8-D176-4747-A782-9E40C0E16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51F6-6573-4D29-B1D5-91C3DA23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4773-FC87-49EB-8862-C9A212E9B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80B2-6DB9-4122-BDE7-1F1C61701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954C-41FE-4FFC-A785-2946C3DA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6B2E-A4F4-49B6-AA50-27583F48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FF4A-09E8-4B6D-BE07-20190C5B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1154-611A-4719-A8DA-F8C3E89B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652A-0235-4EEE-AAA5-7C6F5E9F1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442A-DC8A-4C1A-BBA0-8EE006A4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80A3-F04B-404B-BAC7-F249E711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0C46-CF52-4B00-894D-861B2C29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26C1E-E0BD-4DBC-8F84-00FDE41F8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ок рисования на тему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Рисование с натуры или по представлению мамонтенка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460836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Формирование графического умения и навыка в изображении предметов сложной фор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Развивать наблюда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Воспитывать любовь к природе, гордость за свой кр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19640" y="2852640"/>
            <a:ext cx="37800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монтенок Люба был найден в мае 2007 года на берегу реки Юрибей в Ямальском районе Ямало-Ненецкого автономного округа. Нашел его оленевод Юрий Худи, в честь жены оленевода и назвали мамонтенк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57610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юба оказалась уникальной находкой – ее тело очень хорошо сохранилось, уцелели и кожные покровы, и внутренние органы животного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9480" y="1700280"/>
            <a:ext cx="68450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чина гиб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а жила  42 тыс. лет назад,   погибла в возрасте нескольких месяцев и сейчас у специалистов уже не осталось сомнений относительно причин ее смерти – Люба утонула в ре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067280" y="3500280"/>
            <a:ext cx="475272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 этом свидетельствует большое количество речного ила, обнаруженного в желудке мамонтенка. Кроме того, ученые не нашли никаких признаков болезни, истощения или травм на теле мамонтенка. Видимо, Люба провалилась под лед и утонула, а холодная вода защитила тело от хищников и от разложения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 обеспечило сохранность тела в течение десятков тысяч лет в вечной мерзлоте, а затем предотвратило разложение и уничтожение его падальщиками в течение почти года после того, как тело было вымыто из мерзлоты течением реки. Поскольку тело мамонтёнка было найдено в мае, то есть до того, как вскрывается река, учёные предполагают, что оно было вынесено течением на поверхность за год до момента находки, во время половодья в июне 2006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45500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два года, прошедшие с момента находки, Люба уже успела попутешествовать – сначала мамонтенка доставили в Салехард, в музейно-выставочный комплекс имени Шемановского, затем перевезли для более детального изучения в Санкт-Петербург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3880" y="1844640"/>
            <a:ext cx="60962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2008 году Любу возили в Японию, где специалисты методом трехмерной томографии просканировали все тело животного и получили изображения всех его внутренних органов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5453280" cy="38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940360" y="1773360"/>
            <a:ext cx="2735280" cy="2950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24000" y="2781360"/>
            <a:ext cx="2914560" cy="352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132000" y="2637000"/>
            <a:ext cx="280836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тапы выполнения рису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192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07:29:23Z</dcterms:created>
  <dc:creator>Наталья Аликеевна</dc:creator>
  <dc:description/>
  <dc:language>en-US</dc:language>
  <cp:lastModifiedBy>Наталья Аликеевна</cp:lastModifiedBy>
  <dcterms:modified xsi:type="dcterms:W3CDTF">2010-11-20T06:05:53Z</dcterms:modified>
  <cp:revision>11</cp:revision>
  <dc:subject/>
  <dc:title> Урок рисования на тему «мамонтенок Люба» </dc:title>
</cp:coreProperties>
</file>